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CA6-4983-471C-A85B-25E33F78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8AB-ABFC-4567-95BC-7DB47015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5F0-6DDF-49E7-BF48-18231F18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D68-BA8A-4EFB-BEBB-C55C7FC6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7BC-7F9B-43D8-ADA7-D902AE35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2FE-DA60-46E5-8FE9-D755E051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096-6E4E-4ABA-AAF9-C3F4A8E4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216-56B9-4BB5-9899-A98B6FD3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49D-BFCA-4E72-8EE9-87FFBFB2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096-A714-49E5-B8D1-01C5118F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A44-3333-404F-83C8-DF546A88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BB4-7155-48C0-BA07-5DE9241C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CD6D-CD30-4CED-B65D-61687F394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3623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крастинация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42670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ыдова Е.В. – педагог-психолог ГБОУ гимназии №586 Василеостровского района СП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стоит трудный разговор с родителями уче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0773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804960" y="1347840"/>
            <a:ext cx="7839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6"/>
          <p:cNvPicPr/>
          <p:nvPr/>
        </p:nvPicPr>
        <p:blipFill>
          <a:blip r:embed="rId1"/>
          <a:stretch/>
        </p:blipFill>
        <p:spPr>
          <a:xfrm>
            <a:off x="457200" y="1066680"/>
            <a:ext cx="8534520" cy="5459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6"/>
          <p:cNvPicPr/>
          <p:nvPr/>
        </p:nvPicPr>
        <p:blipFill>
          <a:blip r:embed="rId2"/>
          <a:stretch/>
        </p:blipFill>
        <p:spPr>
          <a:xfrm>
            <a:off x="609480" y="1066680"/>
            <a:ext cx="853452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685800" y="1068120"/>
            <a:ext cx="7772400" cy="474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5 ПРИЕМОВ БОРЬБЫ С ПРОКРАСТИНАЦИЕ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Arial"/>
              </a:rPr>
              <a:t> 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первый: сделать самое сложное с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второй: устроить себе «второе ут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третий: распилить задачи на маленькие кус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четвертый: публичное обещ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пятый: таймер на десять мин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шестой: заблокировать отв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седьмой: сменить обстано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восьмой: думайте о том, что вы можете сдел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девятый: создать ритуал начал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десятый: придерживаться двухминутного пра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одиннадцатый: отдыхать регуля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двенадцатый: найти комп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тринадцатый: простит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четырнадцатый: устроить себе день проду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ем пятнадцатый: напомнить себе, что это ваш 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1895685_1024x768"/>
          <p:cNvPicPr/>
          <p:nvPr/>
        </p:nvPicPr>
        <p:blipFill>
          <a:blip r:embed="rId1"/>
          <a:stretch/>
        </p:blipFill>
        <p:spPr>
          <a:xfrm>
            <a:off x="1428840" y="1566720"/>
            <a:ext cx="628632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IMG_0504"/>
          <p:cNvPicPr/>
          <p:nvPr/>
        </p:nvPicPr>
        <p:blipFill>
          <a:blip r:embed="rId1"/>
          <a:stretch/>
        </p:blipFill>
        <p:spPr>
          <a:xfrm>
            <a:off x="-452520" y="-247680"/>
            <a:ext cx="10049040" cy="73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image"/>
          <p:cNvPicPr/>
          <p:nvPr/>
        </p:nvPicPr>
        <p:blipFill>
          <a:blip r:embed="rId1"/>
          <a:stretch/>
        </p:blipFill>
        <p:spPr>
          <a:xfrm>
            <a:off x="1219320" y="228600"/>
            <a:ext cx="647676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fec4464292e61f95168f530a390d942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 проявления прокрастин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казания об обыденности  Откладывание.mp4" descr=""/>
          <p:cNvPicPr/>
          <p:nvPr/>
        </p:nvPicPr>
        <p:blipFill>
          <a:blip r:embed="rId1"/>
          <a:stretch/>
        </p:blipFill>
        <p:spPr>
          <a:xfrm>
            <a:off x="1600200" y="165744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17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609480" y="1692360"/>
            <a:ext cx="76215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крастина́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от англ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ocrastina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задержка, откладывание; от лат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ocrastinat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с тем же значением, восходит к лат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cra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завтра или лат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crastin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завтрашний, и лат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для, ради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психологии склонность к постоянному откладыванию даже важных и срочных дел, приводящая к жизненным проблемам и болезненным психологическим эффек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Что происходит с нашим мозгом во время прокрастинации? - 3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56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"/>
          <p:cNvPicPr/>
          <p:nvPr/>
        </p:nvPicPr>
        <p:blipFill>
          <a:blip r:embed="rId1"/>
          <a:stretch/>
        </p:blipFill>
        <p:spPr>
          <a:xfrm>
            <a:off x="2190600" y="1447920"/>
            <a:ext cx="4762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тетра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456441681_uchitel-ustal"/>
          <p:cNvPicPr/>
          <p:nvPr/>
        </p:nvPicPr>
        <p:blipFill>
          <a:blip r:embed="rId1"/>
          <a:stretch/>
        </p:blipFill>
        <p:spPr>
          <a:xfrm>
            <a:off x="304920" y="1906560"/>
            <a:ext cx="8458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462501866-aleksa_thinkstockphotos-179039030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исание отч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ставление отме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19:54:49Z</dcterms:created>
  <dc:creator>Администратор</dc:creator>
  <dc:description/>
  <dc:language>en-US</dc:language>
  <cp:lastModifiedBy>admin</cp:lastModifiedBy>
  <dcterms:modified xsi:type="dcterms:W3CDTF">2017-03-06T13:20:0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